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E8D-5DFB-4A85-B261-C8C25626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6C2-DA50-4C54-916C-9C6A93DB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99F-F608-4D88-8F8E-CD34D4B1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C43-9643-4C03-B115-E1F7E0FC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4302-2DA7-43B3-9895-A0706B25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173B-5A34-47F5-A6C3-580DB2A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94B-F0B0-40A3-89BE-572CB466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4D79-861F-438B-8446-0509263F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1D6F-169C-4C0D-A105-C8B04DC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8099-7833-40AD-8953-2C65ECB0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AA0-3F88-4D63-BC67-B4F8281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9BB-422E-4710-BBA6-49284CA0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2947-8EB9-4D95-B039-FEAF921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CAA7-FA20-4CFF-96BC-8857700A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4E27-BC93-44FF-BDC4-E8423FEA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5930-864D-4335-A417-F3BFA46B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B34C-B27D-4D4B-A384-CAEBB87C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33A-036B-4B96-93B1-B5486436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647-E5C8-4C2F-A0DB-6FB204EF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13B-0750-44D8-A9E6-E7EA593D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07E-4FF7-4B96-8B36-5A5CD76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387-DD8F-496A-BC97-1D4B26A8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C57-6554-4F51-8709-7AE03F22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BAB-B09F-42AA-AAE1-A3B8B06F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B9F-1F52-424D-8996-7759D080B51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E07-4C78-499C-B8CE-D5E028BFFED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enchem.chem.wisc.edu/demonstrations/Gen_Chem_Pages/05gasespage/collapsing_aluminum_can.htm" TargetMode="External"/><Relationship Id="rId2" Type="http://schemas.openxmlformats.org/officeDocument/2006/relationships/hyperlink" Target="http://www.delta.edu/slime/cancrush.html" TargetMode="External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24364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99"/>
                </a:solidFill>
                <a:uFillTx/>
                <a:latin typeface="Verdana"/>
              </a:rPr>
              <a:t>Kinetic Molecular Theory</a:t>
            </a:r>
            <a:r>
              <a:rPr b="0" lang="en-US" sz="4000" spc="-1" strike="noStrike">
                <a:solidFill>
                  <a:srgbClr val="cc0099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)  Gas particles d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attrac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r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repe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)  Gas particles are smaller than space between them.(almost all the volume of a gas is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empty spa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)  Gas particles (atoms or molecules) are in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constan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andom mo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4)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N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Kinetic Energy is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los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when gas particles collid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5)  All gasses have the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same average K.E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t a given temperatur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Gay-Lussac’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f volume is held constant, when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 temperature increas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pressure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increas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When the temperature decreases, pressure will decrease.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directl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proportion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s must be in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Kelv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Gay-Lussac’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, standard pressure i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atm or 101.3 kP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 constant volum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Direct proportional grap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00200" y="4876920"/>
            <a:ext cx="1882440" cy="1677600"/>
            <a:chOff x="1600200" y="4876920"/>
            <a:chExt cx="1882440" cy="1677600"/>
          </a:xfrm>
        </p:grpSpPr>
        <p:sp>
          <p:nvSpPr>
            <p:cNvPr id="202" name=""/>
            <p:cNvSpPr/>
            <p:nvPr/>
          </p:nvSpPr>
          <p:spPr>
            <a:xfrm>
              <a:off x="1600200" y="5375520"/>
              <a:ext cx="3052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32960" y="6181200"/>
              <a:ext cx="3042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905480" y="4876920"/>
              <a:ext cx="1577160" cy="1314000"/>
              <a:chOff x="1905480" y="4876920"/>
              <a:chExt cx="1577160" cy="1314000"/>
            </a:xfrm>
          </p:grpSpPr>
          <p:sp>
            <p:nvSpPr>
              <p:cNvPr id="205" name=""/>
              <p:cNvSpPr/>
              <p:nvPr/>
            </p:nvSpPr>
            <p:spPr>
              <a:xfrm>
                <a:off x="1905480" y="4876920"/>
                <a:ext cx="0" cy="131400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05480" y="6190920"/>
                <a:ext cx="15771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1905480" y="5188320"/>
                <a:ext cx="1315440" cy="91044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Boyle’s Law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3886200" cy="4267080"/>
          </a:xfrm>
          <a:prstGeom prst="rect">
            <a:avLst/>
          </a:prstGeom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ffffcc"/>
            </a:outerShdw>
          </a:effectLst>
        </p:spPr>
      </p:pic>
      <p:sp>
        <p:nvSpPr>
          <p:cNvPr id="210" name=""/>
          <p:cNvSpPr/>
          <p:nvPr/>
        </p:nvSpPr>
        <p:spPr>
          <a:xfrm>
            <a:off x="5791320" y="2286000"/>
            <a:ext cx="30477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obert Boyle (1627-1691). Son of Earl of Cork, Irelan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2" name="ShockwaveFlash1"/>
          <p:cNvGraphicFramePr/>
          <p:nvPr/>
        </p:nvGraphicFramePr>
        <p:xfrm>
          <a:off x="685800" y="838080"/>
          <a:ext cx="77724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772400" cy="6019920"/>
                  </a:xfrm>
                  <a:prstGeom prst="rect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oyle’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56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114800" cy="4114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</p:pic>
      <p:sp>
        <p:nvSpPr>
          <p:cNvPr id="219" name=""/>
          <p:cNvSpPr/>
          <p:nvPr/>
        </p:nvSpPr>
        <p:spPr>
          <a:xfrm>
            <a:off x="4950000" y="2514600"/>
            <a:ext cx="3666960" cy="1551960"/>
          </a:xfrm>
          <a:prstGeom prst="rect">
            <a:avLst/>
          </a:prstGeom>
          <a:solidFill>
            <a:srgbClr val="ebf7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acques Charles (1746-1823). Isolated boron and studied gases. Balloonis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1" name="ShockwaveFlash1"/>
          <p:cNvGraphicFramePr/>
          <p:nvPr/>
        </p:nvGraphicFramePr>
        <p:xfrm>
          <a:off x="685800" y="533520"/>
          <a:ext cx="7772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772400" cy="5105160"/>
                  </a:xfrm>
                  <a:prstGeom prst="rect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83868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952880" y="2819520"/>
            <a:ext cx="4191120" cy="8204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oseph Louis Gay-Lussac (1778-1850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99"/>
                </a:solidFill>
                <a:latin typeface="Verdana"/>
              </a:rPr>
              <a:t>Which heel exerts more pressure on a surface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genchem.chem.wisc.edu/demonstrations/Gen_Chem_Pages/05gasespage/collapsing_aluminum_can.ht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www.delta.edu/slime/cancrush.htm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038480" y="2362320"/>
            <a:ext cx="4343040" cy="2818800"/>
            <a:chOff x="4038480" y="2362320"/>
            <a:chExt cx="4343040" cy="2818800"/>
          </a:xfrm>
        </p:grpSpPr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4038480" y="2721960"/>
              <a:ext cx="1878480" cy="23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6087960" y="2362320"/>
              <a:ext cx="2293560" cy="281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http://www.kentchemistry.com/links/GasLaws/manBar.htm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 "/>
          <p:cNvPicPr/>
          <p:nvPr/>
        </p:nvPicPr>
        <p:blipFill>
          <a:blip r:embed="rId1"/>
          <a:stretch/>
        </p:blipFill>
        <p:spPr>
          <a:xfrm>
            <a:off x="914400" y="2057400"/>
            <a:ext cx="3157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GAS LAW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asi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f Gas Laws is t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terdependenc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f Gas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ariable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olu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ress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mpera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umber of M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Combined Gas Law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ne bi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quation f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la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lton’s. This is call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bined Gas La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means there ar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 equa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rememb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 rewritten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=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EB SIT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PhET Simulations.ln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842400" y="3246480"/>
            <a:ext cx="74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ttp://phet.colorado.edu/simulations/sims.php?sim=Gas_Properti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6666"/>
                </a:solidFill>
                <a:uFillTx/>
                <a:latin typeface="Verdana"/>
              </a:rPr>
              <a:t>Tricks 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296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=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gnore the constants(they cancel ou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ox the numbers AND units given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st out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mperatures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KELVIN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emembe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STP is 273 K and 1.0 atm (101.3 kPa, 760 torr, 760 mmHg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ug and chug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520" y="102960"/>
            <a:ext cx="716292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xample Problem #2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alculate the moles that are in 19.7 L of gas at ST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9.7 L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X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=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 M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2.4 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19.7 L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Arial"/>
              </a:rPr>
              <a:t> X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1 mole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   0.881 m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2.4 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103320"/>
            <a:ext cx="72388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Ideal Gas Law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792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he physical behavior of 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ngle gas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mpl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in terms of th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olum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emperature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umber of moles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of gas pres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or              PV =n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= Pressure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= Volum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n= moles of ga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= ideal gas consta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= Temperatu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5328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Ideal Gas Law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ssumes that Particle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ake up no sp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ave no intermolecular attractive for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ollows the gas laws under all conditions of T and 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086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Ideal Gas Constant  (R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n experimentally determined constant whose value in the ideal gas equation depends on the units used for press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0.0821 if in 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tm/mo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8.314 if in 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Pa/mo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62.4 if in 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mHg/mol</a:t>
            </a:r>
            <a:r>
              <a:rPr b="1" lang="en-US" sz="32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o Be Ideal Gas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st completely follow the gas law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nnot liquif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st be a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w press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gh temperat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Real vs Ideal Gases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st gases will behave like ideal gases except whe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t extremely high press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t low temperatu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 polar g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 large gas molecule (C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Example Problem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lculate the number of moles of g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ntained in a 3.0 L vessel at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3.00 x 10</a:t>
            </a:r>
            <a:r>
              <a:rPr b="1" lang="en-US" sz="2800" spc="-1" strike="noStrike" baseline="30000">
                <a:solidFill>
                  <a:srgbClr val="006699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K with a pressure of 1.50 at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3000" spc="-1" strike="noStrike">
                <a:solidFill>
                  <a:srgbClr val="006699"/>
                </a:solidFill>
                <a:latin typeface="Verdana"/>
              </a:rPr>
              <a:t>PV = nRT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V = 3.0 L         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T = 3.00 x 10</a:t>
            </a:r>
            <a:r>
              <a:rPr b="1" lang="en-US" sz="31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 K = 300K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P = 1.50 atm 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R = .0821 L</a:t>
            </a:r>
            <a:r>
              <a:rPr b="1" lang="en-US" sz="31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31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K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99"/>
                </a:solidFill>
                <a:latin typeface="Verdana"/>
              </a:rPr>
              <a:t>n =  ?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P (standard temperature and pressure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andard temperature is either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0° Celsius or 273 Kelvin (no ° sign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or these formulas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emperature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Verdana"/>
              </a:rPr>
              <a:t>MUST BE IN KELV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remember 0 deg. K is the absence of all heat energy!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Standard pressure in several unit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atm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= 101.3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KPa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=760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mm of Hg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= 760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orr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volume for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one mole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of a gas at STP is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22.4 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V = 3.0 L           T = 3.00 x 10</a:t>
            </a:r>
            <a:r>
              <a:rPr b="1" lang="en-US" sz="26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 K = 300K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P = 1.50 atm     R = .0821 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K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n =  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PV = nRT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                 V             n                             R                       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(1.5atm)(3.0L) =n(.0821 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K)(300 K)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n =  </a:t>
            </a:r>
            <a:r>
              <a:rPr b="1" lang="en-US" sz="2600" spc="-1" strike="noStrike" u="sng">
                <a:solidFill>
                  <a:srgbClr val="006699"/>
                </a:solidFill>
                <a:uFillTx/>
                <a:latin typeface="Verdana"/>
              </a:rPr>
              <a:t>        (1.5 atm)(3.0 L)          .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1" lang="en-US" sz="2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(.0821 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atm/mol</a:t>
            </a:r>
            <a:r>
              <a:rPr b="1" lang="en-US" sz="2600" spc="-1" strike="noStrike">
                <a:solidFill>
                  <a:srgbClr val="006699"/>
                </a:solidFill>
                <a:latin typeface="Wingdings 2"/>
                <a:ea typeface="Wingdings 2"/>
              </a:rPr>
              <a:t></a:t>
            </a: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K)(300 K)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n = .18 mol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Boyles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n the </a:t>
            </a: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temperatur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and the </a:t>
            </a: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# of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Verdana"/>
              </a:rPr>
              <a:t>mol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of a sample of a gas is held constant, it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volum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is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inversely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proportional to it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pressur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n other words, as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volume in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Verdana"/>
              </a:rPr>
              <a:t>pressure de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or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as volum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de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Verdana"/>
              </a:rPr>
              <a:t>pressure increases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=P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(inverse relationship graph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3370320"/>
            <a:ext cx="3245760" cy="3030120"/>
            <a:chOff x="990720" y="3370320"/>
            <a:chExt cx="3245760" cy="3030120"/>
          </a:xfrm>
        </p:grpSpPr>
        <p:sp>
          <p:nvSpPr>
            <p:cNvPr id="175" name=""/>
            <p:cNvSpPr/>
            <p:nvPr/>
          </p:nvSpPr>
          <p:spPr>
            <a:xfrm>
              <a:off x="1311120" y="4572000"/>
              <a:ext cx="0" cy="14320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1120" y="6004080"/>
              <a:ext cx="16603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1467000" y="3370320"/>
              <a:ext cx="2768760" cy="246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34" y="9"/>
                  </a:moveTo>
                  <a:arcTo wR="10800" hR="10800" stAng="-5261898" swAng="5261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34" y="9"/>
                  </a:moveTo>
                  <a:arcTo wR="10800" hR="10800" stAng="-5261898" swAng="5261898"/>
                </a:path>
              </a:pathLst>
            </a:custGeom>
            <a:noFill/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0720" y="5114520"/>
              <a:ext cx="320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72080" y="5992920"/>
              <a:ext cx="320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actice Problem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a gas has a volume of 100 mL when the pressure is 1.50 atm, what is the volume in mL when the pressure is increased to 4.5atm, and the temperature is held constant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Think first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f my 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pressur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increase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what should the </a:t>
            </a:r>
            <a:r>
              <a:rPr b="1" lang="en-US" sz="3200" spc="-1" strike="noStrike">
                <a:solidFill>
                  <a:srgbClr val="cc00cc"/>
                </a:solidFill>
                <a:latin typeface="Verdana"/>
              </a:rPr>
              <a:t>volum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?____________________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   P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   V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 P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actice Problem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a gas has a volume of 100 mL when the pressure is 1.50 atm, what is the volume in mL when the pressure is increased to 4.5atm, and the temperature is held constant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Think first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If my pressure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increas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what should the volume do? (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ecreas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100 mL; P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1.5 atm; 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? P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4.5 at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.5 atm x 100 mL = 4.5 atm x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?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1.5 atm x 100 mL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= ? mL =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33mL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decreas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4.5 at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Charles’ Law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pressure is held constant, when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temperature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increases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cc00cc"/>
                </a:solidFill>
                <a:uFillTx/>
                <a:latin typeface="Verdana"/>
              </a:rPr>
              <a:t>volume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will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incre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When the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emperature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cc00cc"/>
                </a:solidFill>
                <a:uFillTx/>
                <a:latin typeface="Verdana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volume will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decrease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portional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nvert degre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Celsiu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Kelvi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7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… because 0 K is the same a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273 °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6666"/>
                </a:solidFill>
                <a:uFillTx/>
                <a:latin typeface="Verdana"/>
              </a:rPr>
              <a:t>Charles’ Law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tanda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mperature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273 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0" lang="en-US" sz="44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 constant pressur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rect relationship grap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114800"/>
            <a:ext cx="1904760" cy="1752120"/>
            <a:chOff x="1295280" y="4114800"/>
            <a:chExt cx="1904760" cy="1752120"/>
          </a:xfrm>
        </p:grpSpPr>
        <p:sp>
          <p:nvSpPr>
            <p:cNvPr id="189" name=""/>
            <p:cNvSpPr/>
            <p:nvPr/>
          </p:nvSpPr>
          <p:spPr>
            <a:xfrm>
              <a:off x="1295280" y="4635360"/>
              <a:ext cx="3088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8840" y="5477040"/>
              <a:ext cx="3078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604160" y="4114800"/>
              <a:ext cx="1595880" cy="1372320"/>
              <a:chOff x="1604160" y="4114800"/>
              <a:chExt cx="1595880" cy="1372320"/>
            </a:xfrm>
          </p:grpSpPr>
          <p:sp>
            <p:nvSpPr>
              <p:cNvPr id="192" name=""/>
              <p:cNvSpPr/>
              <p:nvPr/>
            </p:nvSpPr>
            <p:spPr>
              <a:xfrm>
                <a:off x="1604160" y="4114800"/>
                <a:ext cx="0" cy="137232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604160" y="5487120"/>
                <a:ext cx="159588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604160" y="4440240"/>
                <a:ext cx="1331280" cy="95076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Charles’ La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 if you are solving for a 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varia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= V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Verdana"/>
              </a:rPr>
              <a:t>1   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or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T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9:48:44Z</dcterms:created>
  <dc:creator>CFISD</dc:creator>
  <dc:description/>
  <dc:language>en-US</dc:language>
  <cp:lastModifiedBy>CFISD</cp:lastModifiedBy>
  <dcterms:modified xsi:type="dcterms:W3CDTF">2009-09-21T11:30:46Z</dcterms:modified>
  <cp:revision>88</cp:revision>
  <dc:subject/>
  <dc:title>Chapter 13.4 and 14</dc:title>
</cp:coreProperties>
</file>